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15C-9536-4E51-88CC-A16F6FA4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2C9-2D62-4731-9E0B-D1381DC4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86F-9F69-4FCE-B0D2-2D34AB5C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371-433E-4D10-8E70-62B75066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02D-6FAA-499E-AAF5-5093945F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CEB-E096-4683-96C9-52ED272C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719-AC57-4195-8F02-D473FB2B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679-7AB6-45EC-9B3A-BA9FCB27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5EF-A99A-4D11-A2DB-5FDD5E53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0D3-8749-43BD-B08C-F8934320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B7C-E199-4A92-A135-D77DCB5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63F-B1C3-4424-BDD8-1A1DE2B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6E7D-B0B6-45DC-BDEA-0DF81BC03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mericanfolklore.net/folklore/paul-bunyan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pop+culture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lk Cultu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vs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opular Cultu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tatereports.us/2010/07/johnny-appleseed-folk-hero-of-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mericanfolklore.net/folklore/paul-bunyan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www.brainerd.com/news/archives/paul-bunyan-land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americanfolklore.net/folklore/2010/07/john_henry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ular Culture-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600200"/>
            <a:ext cx="73152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c6da"/>
                </a:solidFill>
                <a:latin typeface="Verdana"/>
              </a:rPr>
              <a:t>Contemporary lifestyle and items that are well known and generally accepted, cultural patterns that are widespread within a population; also calle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op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952880"/>
            <a:ext cx="6553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, 80’s slang, Bieber fever, silly bands, colored wristbands, karao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k Culture-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9528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ditional modes of behavior and expression that are transmitted from generation to generation (by firsthand interaction) among a group or peopl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733920"/>
            <a:ext cx="80010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epe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ker furniture and archite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uisiana cuisine (food), music and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made quil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waiian Hula dance, le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wboy boots, hats and clot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and western mu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nti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ntifacts are the ideas, values and beliefs of a cul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343400"/>
            <a:ext cx="792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ifacts-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895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any object made by human beings, especially with a view to subsequent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ofacts-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819520"/>
            <a:ext cx="792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555"/>
                </a:solidFill>
                <a:latin typeface="Trebuchet MS"/>
                <a:ea typeface="Tahoma"/>
              </a:rPr>
              <a:t>Term coined by Sir Julian Sorell Huxley, used together with the related terms `mentifact` and `artifact` to describe how cultural traits take on a life of their own, spanning over generation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555555"/>
                </a:solidFill>
                <a:latin typeface="Trebuchet MS"/>
                <a:ea typeface="Tahoma"/>
              </a:rPr>
              <a:t>(rituals/behavi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ajor Categori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versaliz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th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niversalizing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found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religious holiday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religious pilgrimag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tend to “recruit” members and try to appeal to people all over (not just a particular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hnic Religion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No found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losely tied to the physical geography of an area (do not go out and recrui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pilgrimages are often to sites in na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calendars are different from our calendar (follow agricultural cyc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3:01:30Z</dcterms:created>
  <dc:creator>Curt Ranweiler</dc:creator>
  <dc:description/>
  <dc:language>en-US</dc:language>
  <cp:lastModifiedBy>Curtis Ranweiler</cp:lastModifiedBy>
  <dcterms:modified xsi:type="dcterms:W3CDTF">2011-03-23T15:33:08Z</dcterms:modified>
  <cp:revision>2</cp:revision>
  <dc:subject/>
  <dc:title>Folk Culture vs. Popular Culture</dc:title>
</cp:coreProperties>
</file>